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6A3-6071-4F23-B826-0A9A23884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250-25F2-4FD2-8B74-53FA4C58D2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16D-A2A3-4E51-8BC8-BD7D38B77F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D9F-CB95-457E-8E44-6007336F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736-6CF3-405F-996B-1471EC34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D4A-97C8-480C-8EAC-5985AE14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857-BE76-43C6-9D33-6988683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C81E-D731-40AB-BB53-437C4922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D620-2968-4EB6-ADED-02EF3F7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66AA-3D65-4CB8-8FE5-6B461C7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266-4FF2-4AE6-A2EE-633BFDDF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259-7094-4FC4-91DA-42FE3B9E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9CF-6A0C-4EAE-A33F-C2122ED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9309-9B10-48B4-AFF1-14A3086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040-4B37-4B24-9694-945A39D0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861-0301-47C6-B5D0-FF177417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F825-DEBB-48AE-A5C4-9371456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A79-E115-48A2-AB02-57810CB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29C2-808C-43BA-9816-518518ED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503-B9AD-4BC0-BDEF-DD87639E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388-DC14-40F7-8CC5-62AB5BFE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915-2DCC-4946-A2F1-CE41DB5A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781-014D-4118-9C4D-82B101D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254-39B7-47DE-BDF4-A733452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1F7-F4A6-4AC2-87DA-2AF570E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E76-B62B-4F58-BFDA-E092F94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C93-4FA0-4E9A-8865-122B44B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6B2-D550-4062-8E66-7EF5A906F80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C84-14DC-4F0B-9660-AA8CF3CDE1B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60720" y="2133720"/>
            <a:ext cx="66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нструмент 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 молотах и пресса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5" descr=""/>
          <p:cNvPicPr/>
          <p:nvPr/>
        </p:nvPicPr>
        <p:blipFill>
          <a:blip r:embed="rId1"/>
          <a:stretch/>
        </p:blipFill>
        <p:spPr>
          <a:xfrm>
            <a:off x="2089080" y="1600200"/>
            <a:ext cx="4965840" cy="4530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2359440" y="8380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Объект 4" descr=""/>
          <p:cNvPicPr/>
          <p:nvPr/>
        </p:nvPicPr>
        <p:blipFill>
          <a:blip r:embed="rId1"/>
          <a:stretch/>
        </p:blipFill>
        <p:spPr>
          <a:xfrm>
            <a:off x="2036880" y="1600200"/>
            <a:ext cx="5070240" cy="4530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2220120" y="304920"/>
            <a:ext cx="46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4" descr=""/>
          <p:cNvPicPr/>
          <p:nvPr/>
        </p:nvPicPr>
        <p:blipFill>
          <a:blip r:embed="rId1"/>
          <a:stretch/>
        </p:blipFill>
        <p:spPr>
          <a:xfrm>
            <a:off x="457200" y="1673280"/>
            <a:ext cx="8229600" cy="4384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2242440" y="304920"/>
            <a:ext cx="46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1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2044800" y="1600200"/>
            <a:ext cx="5054400" cy="4530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491920" y="304920"/>
            <a:ext cx="40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338560" y="304920"/>
            <a:ext cx="427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3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Объект 6" descr=""/>
          <p:cNvPicPr/>
          <p:nvPr/>
        </p:nvPicPr>
        <p:blipFill>
          <a:blip r:embed="rId1"/>
          <a:stretch/>
        </p:blipFill>
        <p:spPr>
          <a:xfrm>
            <a:off x="490680" y="1665360"/>
            <a:ext cx="8162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877400" y="304920"/>
            <a:ext cx="522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4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485640" y="2209680"/>
            <a:ext cx="8229600" cy="4192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1987200" y="228600"/>
            <a:ext cx="522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5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Объект 4" descr=""/>
          <p:cNvPicPr/>
          <p:nvPr/>
        </p:nvPicPr>
        <p:blipFill>
          <a:blip r:embed="rId1"/>
          <a:stretch/>
        </p:blipFill>
        <p:spPr>
          <a:xfrm>
            <a:off x="500040" y="213372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7025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6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5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24739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ъем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7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1452600" y="1600200"/>
            <a:ext cx="6238800" cy="4530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2423520" y="304920"/>
            <a:ext cx="44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8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038600" y="2209680"/>
            <a:ext cx="694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для свободной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азделяется на три групп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997280" y="304920"/>
            <a:ext cx="495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од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0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Объект 6" descr=""/>
          <p:cNvPicPr/>
          <p:nvPr/>
        </p:nvPicPr>
        <p:blipFill>
          <a:blip r:embed="rId1"/>
          <a:stretch/>
        </p:blipFill>
        <p:spPr>
          <a:xfrm>
            <a:off x="1731960" y="1600200"/>
            <a:ext cx="568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Объект 4" descr=""/>
          <p:cNvPicPr/>
          <p:nvPr/>
        </p:nvPicPr>
        <p:blipFill>
          <a:blip r:embed="rId1"/>
          <a:stretch/>
        </p:blipFill>
        <p:spPr>
          <a:xfrm>
            <a:off x="457200" y="2225520"/>
            <a:ext cx="8229600" cy="3279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2183400" y="304920"/>
            <a:ext cx="48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двух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9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Объект 4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29600" cy="44290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1953360" y="304920"/>
            <a:ext cx="54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трапецеида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Объект 4" descr=""/>
          <p:cNvPicPr/>
          <p:nvPr/>
        </p:nvPicPr>
        <p:blipFill>
          <a:blip r:embed="rId1"/>
          <a:stretch/>
        </p:blipFill>
        <p:spPr>
          <a:xfrm>
            <a:off x="1930320" y="1600200"/>
            <a:ext cx="5283360" cy="4530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2356560" y="228600"/>
            <a:ext cx="44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923760" y="2494080"/>
            <a:ext cx="729648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2386080" y="38088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572200" y="3808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 для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21360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2536560" y="380880"/>
            <a:ext cx="43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231200" y="2362320"/>
            <a:ext cx="61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ы 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41320" y="2311560"/>
            <a:ext cx="745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 цельные, сменные надста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ладыши к бойка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Г, 40ХН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422800" y="2433600"/>
            <a:ext cx="468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иты для ос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ые Ст 3, 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ые сталь 35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87640" y="1679400"/>
            <a:ext cx="861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ой технолог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, плиты для осадки, опра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ки, кольца, раскатки, угол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обжимки, топо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1875960" y="2133720"/>
            <a:ext cx="445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, просеч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5ХМ, 5ХНВ, 7Х3, 8Х3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ГМ, 5ХН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830880" y="243828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сплошные и пустотелы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, 50Х, 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847880" y="2449440"/>
            <a:ext cx="52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 прошивня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50, 5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1136520" y="2387520"/>
            <a:ext cx="699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раскатки, подкл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548000" y="213372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7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559160" y="1371600"/>
            <a:ext cx="57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скат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40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Н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либро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Х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831320" y="1676520"/>
            <a:ext cx="499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50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155320" y="2197080"/>
            <a:ext cx="473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чки к топорам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му инструменту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, сталь 15, сталь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745640" y="220968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15, сталь 20, сталь 25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961360" y="2176560"/>
            <a:ext cx="285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ове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33280" y="2311560"/>
            <a:ext cx="695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Поддерживающи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, стойки, патр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133360" y="1905120"/>
            <a:ext cx="484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ание и подста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адыш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655200" y="2133720"/>
            <a:ext cx="77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Мерительны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нциркули, угольники, нутроме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ейки, калибры, шабл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38960" y="2819520"/>
            <a:ext cx="61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подразделяют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версальный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циализированн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1892160" y="1600200"/>
            <a:ext cx="535968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05320" y="76212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 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070600" cy="4530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381040" y="7621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Объект 4" descr=""/>
          <p:cNvPicPr/>
          <p:nvPr/>
        </p:nvPicPr>
        <p:blipFill>
          <a:blip r:embed="rId1"/>
          <a:stretch/>
        </p:blipFill>
        <p:spPr>
          <a:xfrm>
            <a:off x="2266920" y="1712880"/>
            <a:ext cx="4610160" cy="43052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2318040" y="38088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1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