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777F-CD4D-4540-B64C-B574CDB36C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B862-E3F5-4481-9FB5-D28CE80952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DC9F-08A4-4DEA-A6A3-1EEEDB2F05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DCC2-B93E-458D-9FFC-FBCCF1BB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2A0-D627-400F-A26A-F60DD711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4C3-928B-4AB5-8D18-FB5AB12A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32F0-452C-47BC-A4BF-E030F794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7373-BCC9-41D1-8AC7-D58BD35E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F778-A8A7-4851-BCF1-F7CC2C11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6431-26B4-4BFD-989A-AD5DC970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20B2-C178-4A0D-B1FD-2939C4C3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8DF1-1E2E-4675-8E01-48D4CBF0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92F2-B0ED-4B4B-B010-610110C4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7D34-2B74-4B9E-BAAB-54372100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D3F-3A17-43EC-863A-23AC6E44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7F9B-76FC-4527-A9FE-9A1C98E2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8198-DFC0-41BB-B6F7-FBF34274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5EB2-70FD-4B2F-B2C9-CDA82070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4171-37AC-4969-A5CA-A5CD48C3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1CB6-0EDF-4B7B-A895-7110FE2A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9B5-C355-466C-860A-0007317B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EFB8-0A43-48C0-B5D9-A842E3E7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03E-FED0-4CA5-8C4C-5F83E437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68A9-E8F7-40C5-8191-36E8E9A0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966-DB5D-43C3-A97B-F5C1C1FF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954C-A2B5-4166-9612-0FBBD169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5BB-8ECF-4CCE-957C-EF765452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4767-6DFE-47A7-82EC-12DEC62E361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A14F-064D-4045-B9B1-42E9FC608DA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142280" y="1371600"/>
            <a:ext cx="6956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атериалы,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применяемые пр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изготовлении детале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штамп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листовой штампов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992160" y="1600200"/>
            <a:ext cx="698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массы на основе акрилов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 (акрилопласты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СТ-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акрилат самотвердеющ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хнический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) стиракрил (протакрил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750960" y="2133720"/>
            <a:ext cx="7124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массы но основ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енольноформальдегидных смол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евесно-клеевая мас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КМ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) песко-клеевая мас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К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511560" y="990720"/>
            <a:ext cx="8277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овой оснастк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изгото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риц, пуансонов, съемников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феров, прижимов и други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ют литьевой полиурета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ок СКУ-7Л, СКУ-ПФЛ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ребующ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олнительной вулканизац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иуретан этих марок легко поддает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идам обработки резание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574920" y="609480"/>
            <a:ext cx="80337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бенности полиуретана: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четание пластичности с твёрдостью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кое сопротивление истиранию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кое сопротивление на разрыв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кое сопротивление сжати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до 250÷300 МПа)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кая стойкость пр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рных нагрузках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кость к действию масел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авленных кисло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ругих вещест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80880" y="304920"/>
          <a:ext cx="8305920" cy="549576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133720"/>
              </a:tblGrid>
              <a:tr h="3661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етали штамп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арка сталей и материа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Рекоменду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Замен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уансоны и матрицы пробивные и пробивные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ростой фор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ложной фор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10, У10А, Х12Ф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Х12ВМ, Х6ВФ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Р6М5, ВК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5ХВ2С, ШХ15, Х12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7ХГ2ВФМ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Р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уансоны и матрицы для чистов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вырубки-пробивк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ростой фор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ложной фор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Х12Ф1, Х6В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Х12ВМ, Р6М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7ХГ2ВФМ, Р6М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Р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уансоны и матрицы вытяжные и формовоч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10А, Х12, ВК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Х12Ф1, Х6В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уансоны и матрицы гибоч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10А, Х6В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10, Х12Ф, ШХ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8" name="Заголовок 1"/>
          <p:cNvSpPr/>
          <p:nvPr/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880" y="304920"/>
          <a:ext cx="8305920" cy="604512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1337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етали штамп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арка сталей и материа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Рекоменду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Замен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уансоны и матрицы для холодного выдавливания алюминия и ме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Х12М, Р6М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Х12Ф1, 7ХГ2ВФМ, Р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литы штампов лит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Чугун СЧ21-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Чугун СЧ22-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30Л, Сталь 40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литы штампов осталь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40, Сталь 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Хвостов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35, Сталь 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4, Ст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Колонки направляющ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20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45, Сталь 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Втулки направляющ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20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45, Сталь 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Втулки для шариковых направляющ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ШХ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  <p:sp>
        <p:nvSpPr>
          <p:cNvPr id="172" name="Заголовок 1"/>
          <p:cNvSpPr/>
          <p:nvPr/>
        </p:nvSpPr>
        <p:spPr>
          <a:xfrm>
            <a:off x="4795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49280" y="843120"/>
          <a:ext cx="8305920" cy="461772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133720"/>
              </a:tblGrid>
              <a:tr h="3661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етали штамп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арка сталей и материа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Рекоменду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Замен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уансонодерж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35, Сталь 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одкладки под пуанс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ъем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рижимы, направляющие планки, выталкив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40, Сталь 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по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Лови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8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7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Штиф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Вин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ружи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65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  <p:sp>
        <p:nvSpPr>
          <p:cNvPr id="176" name="Заголовок 1"/>
          <p:cNvSpPr/>
          <p:nvPr/>
        </p:nvSpPr>
        <p:spPr>
          <a:xfrm>
            <a:off x="5256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411120" y="0"/>
            <a:ext cx="85042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зина в штампах применяет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едующих случаях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честве рабочего инструмент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) при вырезке резиной 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гидравлических прессах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при формовке и гибке н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гидравлических прессах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2) в качестве упругого амортизатора-буфера при штамповке на пресса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для съемников, выталкивателей, прижимов и т.п.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837000" y="762120"/>
            <a:ext cx="76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езки резиной применяю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зину повышенной тверд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о Шору 70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формовки-гибки резин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ют сорта средней тверд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о Шору 45-65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тяжки резиновой матриц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ют наиболее эластич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рта резины, допускающ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ую степень деформаци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669600" y="304920"/>
            <a:ext cx="7697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ические массы применяю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едующих видов штамп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изгото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стью пластмассовых штамп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их детал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блицовки рабочей поверх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ансонов, матриц, прижим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тяжных штампо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крепления пуансонов,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тулок, заливки направляющ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ий в съемника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1011600" y="2057400"/>
            <a:ext cx="6944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ибольшее применение д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отовления штампов получил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массы на основ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поксидных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енольно-формальдегидных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криловых смо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44080" y="838080"/>
            <a:ext cx="8765280" cy="43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массы на основе эпоксид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 (эпоксипласты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кая механическая проч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ffffff"/>
                </a:solidFill>
                <a:latin typeface="Verdana"/>
              </a:rPr>
              <a:t>σ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60÷250 МП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) малая усадка (от 0,1 до 0,2%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) высокая адгезия (прилипаемость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) устойчивость к действию влаги и масе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) теплостойкость от -20 до +100°С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0:59Z</dcterms:modified>
  <cp:revision>2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