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8911-4269-40AD-87CD-931DC97B3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63D3-D0B8-482A-83CF-822D25DDD0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7EC1-F692-41B9-9565-4AD4557B8F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E90-12CB-4737-8388-22791915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9C3-1E2F-42E8-8F79-E37EFB9E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696-22FD-4FA9-895A-67475E5B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BCA-9D8C-499C-965A-00EE4CE6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E20A-DEE7-489F-8CD0-322B5346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E6C4-47F3-41DC-B3C0-BAE7A1EE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36FB-DB3A-4891-AA09-04055DE6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6E3C-B7D9-4A08-9D22-D0C65133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912B-7D02-4225-B8DD-B9B90E22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A3D2-1662-4E83-BC3E-765A0522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D12D-CBA8-40E1-AAF0-80EB77C9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F0E-DFDE-4F63-AA66-7529807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C9D7-2290-40FD-BE0C-2BFCE66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F0E5-69E0-4837-902E-6040D66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D271-A748-4203-82FF-01CDCF2D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1268-E1C8-4711-A482-30E3C9DC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3322-EE05-4416-8C60-8EA5E4EE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E6A-54BA-4C40-92BA-EC34BADF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9D2-DBC2-44C6-8AC9-BA34DA2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B0E-3061-4C6A-ACB5-43F3D8DA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4F9-27DC-4E8A-920B-89BF221F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49C-CEEA-4CF2-80AD-5C6524A7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05C-ECDC-43B6-B39F-9B33DDFE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B6B-15A7-4A9D-92B5-0E8CD0E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B58A-9F56-4C46-BE1A-6ACA7FE9A44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2B09-14E6-4541-AA2B-DD408ACCCB2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705600" y="213372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лассификация 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ля горяче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610160" cy="4530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391680" y="457200"/>
            <a:ext cx="820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е, но для случае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это обусловлено формой по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297440" y="1219320"/>
            <a:ext cx="6630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епленные штам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штампов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отах поковок всех фор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ласно классифик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массового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пносерийного производ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Объект 4" descr=""/>
          <p:cNvPicPr/>
          <p:nvPr/>
        </p:nvPicPr>
        <p:blipFill>
          <a:blip r:embed="rId1"/>
          <a:stretch/>
        </p:blipFill>
        <p:spPr>
          <a:xfrm>
            <a:off x="2916360" y="1600200"/>
            <a:ext cx="3311280" cy="45306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3103920" y="4572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Объект 4" descr="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30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2785680" y="304920"/>
            <a:ext cx="34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401120" y="685800"/>
            <a:ext cx="6320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штампов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отах поковок ти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л вращения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поковок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груп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тикальными стенк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их периметр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крупносерий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ссового производ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Объект 4" descr=""/>
          <p:cNvPicPr/>
          <p:nvPr/>
        </p:nvPicPr>
        <p:blipFill>
          <a:blip r:embed="rId1"/>
          <a:stretch/>
        </p:blipFill>
        <p:spPr>
          <a:xfrm>
            <a:off x="2835360" y="1600200"/>
            <a:ext cx="3473280" cy="4530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3027600" y="38088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Объект 4" descr=""/>
          <p:cNvPicPr/>
          <p:nvPr/>
        </p:nvPicPr>
        <p:blipFill>
          <a:blip r:embed="rId1"/>
          <a:stretch/>
        </p:blipFill>
        <p:spPr>
          <a:xfrm>
            <a:off x="3498840" y="1600200"/>
            <a:ext cx="214632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2682360" y="380880"/>
            <a:ext cx="34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096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328400" y="2514600"/>
            <a:ext cx="653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епленные (подкладны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28760" y="380880"/>
            <a:ext cx="8192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ковочных молот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средне- 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лкосерийного производства пок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осительно простой формы в одн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м ручь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ее сложной формы к примен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аной заготовки или заготов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овленной в заготовительн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ладном штамп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46Z</dcterms:modified>
  <cp:revision>2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