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2BC3-FF14-47B5-8A20-188E1A5CD7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2AEA-CC7A-49CB-BBE5-3E5C321258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75C8-E38D-4845-AB05-1D98E41902E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4E0B-3EDA-439B-8667-98A5B19BB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5F39-6876-4FA3-9CC8-26D5EC51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BF1C-77A6-4046-AEEA-A51AFAA17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C72F-B2BD-4383-AC2D-266CC63CC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3165-9251-45C8-9EAE-42DB9930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6174-6E75-4D4B-ACB7-2DEC75E3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446F-B48E-41C0-BB44-BE45D088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9663-B58A-4E6B-8D26-2AE3796A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4B8C-0F66-4466-96BD-9AD0CB06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DD33-C053-4B79-ADCF-31F60300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F8AB-8C9C-4FD2-8CB4-27C5C083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3306-8EA6-456D-9A2C-72447E40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0021-43F0-4FC9-A77B-E7AC85DA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4091-FF6E-44C1-94CD-AE4FDBCF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AE26-2E1C-4196-92D8-E69EE4B0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8F3A-FE56-4ACF-81D7-F6E482E9A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3FB4-2626-470F-BF34-4CAA1BCF9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B9DF-E025-4F3A-8C41-B6D55957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38CB-DAFA-46CE-8C39-79FC266A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F9B5-C768-4BE0-8248-6368D589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0701-C614-4E36-96E4-20024734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77DA-0725-497A-B194-95582183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E36E-90C5-4049-AA97-75A24427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A507-0887-4757-AD80-3749936B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6227-6ADB-4EBB-BB45-E8282F16150D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3FC3-F54C-4FFE-BE83-B2E704B4E674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1277280" y="2133720"/>
            <a:ext cx="6592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Чистота обработки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деталей штампов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листовой штамповк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extBox 3"/>
          <p:cNvSpPr/>
          <p:nvPr/>
        </p:nvSpPr>
        <p:spPr>
          <a:xfrm>
            <a:off x="805680" y="2222640"/>
            <a:ext cx="711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Виды обработк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и чистота поверхност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2682720" y="428760"/>
            <a:ext cx="3029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рл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z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0 до 2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TextBox 4"/>
          <p:cNvSpPr/>
          <p:nvPr/>
        </p:nvSpPr>
        <p:spPr>
          <a:xfrm>
            <a:off x="2518200" y="2743200"/>
            <a:ext cx="3472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нкеров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нов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z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0 до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z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ов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z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0 до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,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2347920" y="1371600"/>
            <a:ext cx="3535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ртыв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рмальн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3,2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a0,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чн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1,6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a0,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нк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0,8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a0,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TextBox 3"/>
          <p:cNvSpPr/>
          <p:nvPr/>
        </p:nvSpPr>
        <p:spPr>
          <a:xfrm>
            <a:off x="2485440" y="1143000"/>
            <a:ext cx="3620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ч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нов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z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00 до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z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ов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z100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нк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3,2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до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TextBox 3"/>
          <p:cNvSpPr/>
          <p:nvPr/>
        </p:nvSpPr>
        <p:spPr>
          <a:xfrm>
            <a:off x="2280600" y="1371600"/>
            <a:ext cx="3763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ог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варительн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z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00 до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z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ов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z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,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нк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,6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extBox 3"/>
          <p:cNvSpPr/>
          <p:nvPr/>
        </p:nvSpPr>
        <p:spPr>
          <a:xfrm>
            <a:off x="2531880" y="1600200"/>
            <a:ext cx="3763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резеров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варительн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z20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до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z2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ов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z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5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,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нк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,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extBox 3"/>
          <p:cNvSpPr/>
          <p:nvPr/>
        </p:nvSpPr>
        <p:spPr>
          <a:xfrm>
            <a:off x="2585160" y="1447920"/>
            <a:ext cx="3763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лифов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варительн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z25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до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,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ов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,6 до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нк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4 до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extBox 3"/>
          <p:cNvSpPr/>
          <p:nvPr/>
        </p:nvSpPr>
        <p:spPr>
          <a:xfrm>
            <a:off x="1997280" y="2514600"/>
            <a:ext cx="457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лифование-отдел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1 до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0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2443320" y="1371600"/>
            <a:ext cx="3768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тир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уб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,8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ня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4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нк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1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0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TextBox 3"/>
          <p:cNvSpPr/>
          <p:nvPr/>
        </p:nvSpPr>
        <p:spPr>
          <a:xfrm>
            <a:off x="2459880" y="1905120"/>
            <a:ext cx="3768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нингов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рмальн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,6 до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ркальн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4 до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0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492120" y="1600200"/>
            <a:ext cx="8152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хности не требующ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ой обработ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провальные отверстия плит штампов)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z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от 80 до 4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2400120" y="2401920"/>
            <a:ext cx="353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абр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,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Спасибо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з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внимание!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731160" y="1676520"/>
            <a:ext cx="7491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хности деталей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оприкасающиеся с другим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алями, а также поверхн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сверления или зенкерования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z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от 40 до 2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905040" y="1600200"/>
            <a:ext cx="7463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орные поверхн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особых требован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выступающая часть хвостовика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орные поверхности винтов и т.п.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z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от 20 до 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810720" y="1600200"/>
            <a:ext cx="7425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орные поверхности плит блок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ычной точности, держател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ансонов и матриц, отверстия по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зку, соединение профиль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ансонов с пуансонодержателям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от 2,5 до 1,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604080" y="1600200"/>
            <a:ext cx="8107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хности отверстий для посадо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2-му классу точности, прилегающ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хности деталей пакета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тановочные штифты, упоры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прессовываемая час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ющих колонок и втулок и т.п.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от 1,25 до 0,6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TextBox 3"/>
          <p:cNvSpPr/>
          <p:nvPr/>
        </p:nvSpPr>
        <p:spPr>
          <a:xfrm>
            <a:off x="665640" y="1600200"/>
            <a:ext cx="7558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вижная часть направляющи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онок и втулок, изготовляемых п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-му классу точности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чая поверхность большинств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рубных и гибочных штампов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хности вытяжных пуансонов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от 0,63 до 0,32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extBox 3"/>
          <p:cNvSpPr/>
          <p:nvPr/>
        </p:nvSpPr>
        <p:spPr>
          <a:xfrm>
            <a:off x="376200" y="762120"/>
            <a:ext cx="7718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чая поверхность вытяж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триц и складкодержателей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жущие поверхности выруб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цизионных штампов, рабоч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хности штампов для холодног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давливания, направляющ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хность колонок и отверст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ющих втулок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готавливаемых по 1-му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лассу точност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от 0,16 до 0,0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736920" y="1066680"/>
            <a:ext cx="7747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ющая поверхность колоно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цизионных штампов, в частн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шариковым направлением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чие поверхн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ормообразующих штампов пр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ышенных требованиях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от 0,08 до 0,02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унин</dc:creator>
  <dc:description/>
  <dc:language>en-US</dc:language>
  <cp:lastModifiedBy>TFiHOM</cp:lastModifiedBy>
  <dcterms:modified xsi:type="dcterms:W3CDTF">2022-10-19T09:11:39Z</dcterms:modified>
  <cp:revision>2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