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ACCA-54B1-4974-A525-B9CF333ECF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F36E-5CB0-4895-9E21-3524DD99D1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AFB3-EF10-45AA-831F-BABAB8412C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497F-43CE-4A98-B19B-77F34798F4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3E96-EC77-40BA-9890-770EF5C2F5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1125-E36D-4C7E-9766-C1FD794B8D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9E97-415B-4F60-B1AB-52E26787E9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BFC-8F32-4826-9C1D-C27BFAA931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0AF-8779-416A-9F35-292CEAB0DA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05DF-1DA3-444E-993E-2ACE6699BE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B3FC-CE4F-4169-9FF8-6FEA8FD9AC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A2CF-59A4-4117-A9BE-E06B37E6E9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F687-AC61-4094-87E3-2CED7C7E42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9435-AC23-4C98-8D91-09DF4951BA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E6D8-ADCF-4C9A-A76A-B00F74D2D8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3219-542F-49C6-A6C6-4421BC3649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8953-D974-4987-927C-649260D969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A9A7-7994-4212-B38F-A951B48F4A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4CE1-1C85-45BB-9F63-6FCFB4B99C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947F-AD34-436E-85A9-2AA7011053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3AAC-78D4-4E96-967B-1085A49878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1E3-3069-47F4-A19A-E8883FA9E5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838D-501F-4D25-9810-BE68B7FEBF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14CF-A3BD-4749-9D4B-AD02BCB17E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9495-CBBF-4C6C-98AC-3366F2F1E2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5697-4FA9-4AAE-8DC8-DABBFE14D8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BD9D-C334-4138-A93E-7F46D6DFF0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FA3-CF6D-4BCD-B7EF-8F8C7538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912-9214-4610-A20A-C8B53920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43D-7429-4454-9027-539AC9E0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1FC-77F9-43E3-BBBF-84F7CB2B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FA97-A74E-465A-A077-60DB0548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40D4-B6FD-4AC9-A63E-8460934C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62BD-D655-49F6-B097-A2C448D7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471A-400B-49FB-AC90-C34EEB2D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59BD-0012-4410-BBB8-330E7239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C462-897E-47A2-A1EC-D883B54B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9598-882F-4542-A9F5-5DCE533D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8EE-F011-4CA9-98F1-61A5FEEC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2E90-9B3A-401F-85EA-6473C19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A95B-D7F7-4FA8-BB11-A9682E84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0C8B-E10D-40CE-8227-C1C65361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61F0-A411-4422-B799-BA5E5F38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F0B-03E0-44DD-A023-E327573E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933-2F1F-4DAB-A3C2-574B5E8E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9F7-68D0-419A-9E4E-2FED84DA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5C0-D5C2-4925-AC67-0675AB3E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F98-1FAA-457E-9794-583BCA8D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2F8-DFC1-46BC-9DCA-CDCC01DF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00E-F635-4431-9059-6443564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FDC-4355-49CE-9B7B-6B537CE5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4071-3176-4E12-892E-B01BC8C6D17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C7EE-5DB2-4204-82EA-10C9944A425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324080" y="1371600"/>
            <a:ext cx="6592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нструктив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элемент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листово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1175040" y="1600200"/>
            <a:ext cx="6973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 при работе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ходных пресса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коротком рабочем ход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нка по шариковым втулка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тягом 0,005 – 0,007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2444040" y="4648320"/>
            <a:ext cx="43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пенча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заводская нормал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7076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191680" y="1600200"/>
            <a:ext cx="490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крупных штамп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80 и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правляющей ч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овая посад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-го класса точ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2229840" y="2286000"/>
            <a:ext cx="491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равляющ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тул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1710000" y="5477040"/>
            <a:ext cx="582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дкие по ГОСТ 13120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266760" y="304920"/>
            <a:ext cx="86104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1476360" y="2332080"/>
            <a:ext cx="636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тандарт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12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3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324080" y="5613480"/>
            <a:ext cx="639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пенчатые по ГОСТ 13121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836640" y="304920"/>
            <a:ext cx="73724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175400" y="2514600"/>
            <a:ext cx="711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ормализова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прессовки нужна довод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хонингование) отверст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12 до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494000" y="5410080"/>
            <a:ext cx="631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линенные по ГОСТ 13122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762120" y="297000"/>
            <a:ext cx="77817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900360" y="1828800"/>
            <a:ext cx="765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, требующих больш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ны рабочего хо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прессовки рабочий диамет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улки не уменьш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падает последующая довод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12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924920" y="2362320"/>
            <a:ext cx="491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равляющ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лон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655280" y="4267080"/>
            <a:ext cx="58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риковых направляющи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952640" y="838080"/>
            <a:ext cx="523872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599760" y="1927080"/>
            <a:ext cx="786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емых при штамповке т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, особенно при штампо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ыстроходных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алым ход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1033560" y="4267080"/>
            <a:ext cx="72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параторы с шариковы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ми по ГОСТ 14678-6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2171880" y="1447920"/>
            <a:ext cx="49528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847440" y="1447920"/>
            <a:ext cx="759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тамп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эффициент трения ка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20 раз меньш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эффициента трения сколь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рики при качении между втул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онкой создают натя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05 – 0,007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304000" y="1905120"/>
            <a:ext cx="3664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Хвостови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дл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739880" y="577836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той (заводская нормал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1"/>
          <a:stretch/>
        </p:blipFill>
        <p:spPr>
          <a:xfrm>
            <a:off x="1814400" y="184320"/>
            <a:ext cx="551520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821160" y="2590920"/>
            <a:ext cx="756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ебольши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ивается в одно цел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хней плитой и обрабатыв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1818720" y="5403960"/>
            <a:ext cx="60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уртиком по ГОСТ 16715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1709640" y="228600"/>
            <a:ext cx="57913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751320" y="1903320"/>
            <a:ext cx="7710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видов блочных и пакет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спечивает наилучшую центровк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ерпендикулярность ос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67400" cy="45306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1884960" y="4952880"/>
            <a:ext cx="58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езьбой по ГОСТ 16716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1762920" y="5486400"/>
            <a:ext cx="582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дкие по ГОСТ 13118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371520" y="1295280"/>
            <a:ext cx="86104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631800" y="1676520"/>
            <a:ext cx="776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с направляющ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нками главным образом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очных, вытяжных и прочих рабо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ных штампов применя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пор. Небольшая погрешность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пендикулярности к плоск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Объект 3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752560" cy="4530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1984680" y="5097600"/>
            <a:ext cx="521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езьбой и буртиком п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 16715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548720" y="2286000"/>
            <a:ext cx="589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е, что и выш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грешность меньш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новка стопорного вин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обне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Объект 3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523040" cy="45306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1952280" y="5006880"/>
            <a:ext cx="537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устанавливающий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лавающ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ибковы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1092960" y="1676520"/>
            <a:ext cx="6926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цизионных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ющими без сх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елкой и точной штампов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Объект 3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926240" cy="4530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1607760" y="5105520"/>
            <a:ext cx="59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фланцем по ГОСТ 16718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934200" y="137160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упных штампах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ми колонкам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хвостовик служит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овой установки или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х, где по конструктив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ображениям нельзя примени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остовик другой конструк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56320" cy="45306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1654560" y="5029200"/>
            <a:ext cx="58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устанавливающий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ферическим вкладыш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719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505080" y="457200"/>
            <a:ext cx="780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цизионных вырубн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щенных и последователь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особенности 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вердосплавными пуансон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триц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ление хвостовика 1 перед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ферический вкладыш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пятнику 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небольшом перекосе хвостов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 давления практичес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ня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2735640" y="2674800"/>
            <a:ext cx="30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ужин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2183400" y="2286000"/>
            <a:ext cx="52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тандартных бло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от 12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Объект 3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30600" cy="45306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1505880" y="4876920"/>
            <a:ext cx="60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собы установки пруж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зависимой регулиров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2751120" y="2743200"/>
            <a:ext cx="31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уансон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Объект 3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608360" cy="45306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2749320" y="503244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аплеч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621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972440" y="2362320"/>
            <a:ext cx="517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ом до 5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&gt;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5" name="Объект 3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695840" cy="40003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2260440" y="4572000"/>
            <a:ext cx="47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иленный с бурт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623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1783080" y="1600200"/>
            <a:ext cx="519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ом от 5 до 26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&gt; 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удельной нагруз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100 М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ть проклад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1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067360" cy="45050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2260440" y="510552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иленный с бурт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625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907200" y="2006640"/>
            <a:ext cx="7383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диаметром от 26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диаметре свыше 40 мм в торц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ть выточку для уменьш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шлифова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удельной нагрузки свыш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 МПа применять проклад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7" name="Объект 3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667120" cy="35049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216960" y="42670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став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634320" y="2289240"/>
            <a:ext cx="78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диаметром от 50 до 2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целью экономии инструменталь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и, наставка делается сменн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1588680" y="5562720"/>
            <a:ext cx="630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оточкой по ГОСТ 13119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-го и 2-го класса точ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282600" y="304920"/>
            <a:ext cx="86868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91040" cy="40100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1118520" y="4495680"/>
            <a:ext cx="74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ерживаемый расклепкой гол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е нормализован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726840" y="1676520"/>
            <a:ext cx="7745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ьзуется в пакетных штампа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 в случае близк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оложения пробивных пуансон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структивной невозмож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ения пуансонов с буртик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ть проклад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664200" y="213372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Типы рабочих отверст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ырубных и пробив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три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81680" cy="4086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3154320" y="4795920"/>
            <a:ext cx="32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с шей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914040" y="990720"/>
            <a:ext cx="728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деталей слож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фигурации. Высота шейк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пустимое отклонение угла (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утся в зависимости от толщи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 0,5 мм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3÷5 мм,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0,5÷5 мм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5÷10 мм,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20´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5÷10 мм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÷15 мм,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3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ол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3 до 5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352760" cy="3219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>
            <a:off x="2831760" y="3886200"/>
            <a:ext cx="34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конус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3"/>
          <p:cNvSpPr/>
          <p:nvPr/>
        </p:nvSpPr>
        <p:spPr>
          <a:xfrm>
            <a:off x="866880" y="304920"/>
            <a:ext cx="7311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небольши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й конфигурации. Угол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тся в зависимости от толщи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5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÷15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5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5÷2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1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20÷3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30÷45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45´÷1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указанных углах возмож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ая перешлифов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ы по толщи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4" name="Объект 3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53000" cy="40482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2165400" y="4724280"/>
            <a:ext cx="50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призматиче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986760" y="2209680"/>
            <a:ext cx="696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ырубке деталей с обрат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алкиванием 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щенного типа и в случа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бки круп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0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819680" cy="36478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1846080" y="4343400"/>
            <a:ext cx="540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с цилиндрически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ир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1734480" y="2743200"/>
            <a:ext cx="556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тандартных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изованных бло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от 12 до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430920" y="1752480"/>
            <a:ext cx="829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углых вставных матриц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 (до 25 мм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илиндрическое уширение д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целью упрощени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ы. Высота шейк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допуст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лонение угла (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 берутся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имости от толщины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равляющие план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 боковые прижим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8" name="Объект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86400" cy="3448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1936800" y="5486400"/>
            <a:ext cx="49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цы направля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461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1053000" y="1981080"/>
            <a:ext cx="721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крытых штампах с пружин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жимом-съемником или п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е на пробивных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ъемником укреплен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анине пресс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Объект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105680" cy="3686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2254320" y="570240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нки направля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с жестким съемн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лос средней и больш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ины (свыше 60 мм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9" name="Объект 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916680" cy="34290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1136520" y="5307120"/>
            <a:ext cx="71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ъемники с направляющим паз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138320" y="2209680"/>
            <a:ext cx="685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с жестким съемн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узких пол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иной до 6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81520" cy="32194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1579320" y="4948200"/>
            <a:ext cx="61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ковой прижим пружин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8765-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овательных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ентрированного переме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осы или лен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на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лебание ширины полосы) 2-3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щина пружин от 0,5 до 1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949400" y="4572000"/>
            <a:ext cx="49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гладк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1452600" y="1209600"/>
            <a:ext cx="6114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159200" y="1295280"/>
            <a:ext cx="671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аправляющих втул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от 14 до 3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ая часть коло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няется по направляющи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ям верхних пли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азором 0,001 – 0,003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1611720" y="4191120"/>
            <a:ext cx="59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ступенча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1501920" y="762120"/>
            <a:ext cx="6134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08Z</dcterms:modified>
  <cp:revision>1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