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E89E-84A2-4DE5-8867-967D3F5622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03F5-A444-406E-BE57-08F69B4A62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89F5-2561-4B7A-9674-D44E52AA90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174A-7EE1-4FF9-BA3D-2DF37779D5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D328-77D7-482D-BD73-873B54CE43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397B-3605-42A2-8453-057DAE7946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13DC-50C8-40D6-AE40-1698CDF645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B8E4-B9D9-4F0E-AED5-775BBFEAD0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29E2-32E4-4DA1-ACF3-0D1989225C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DF9B-EAF7-45A1-98F3-B677A99C69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D4C7-8796-441D-9063-CD16E2D4D3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920F-E579-4FD1-A162-E2E3512BE0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4D33-AFBF-4C60-A2F9-29B297073B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A21C-1802-4BA9-B320-D4613D8138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DD2E-EEB7-4464-A7D6-4A2BCD5D40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E5A2-8D68-4C6D-949F-E130E4D316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1518-3E3F-4267-A747-E283FE9326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316E-5FDC-402A-98BC-B2CDE4C4FF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B853-9658-4908-A7C4-54160C1361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0732-A59E-4C00-A25A-ACF8D6FF56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B0AC-E144-49E9-9A11-6948C88DEF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D695-9EBA-48D9-A3AD-235949B7DE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B58B-BE67-41A3-9B97-718E3724B0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1718-A5BA-4597-840F-4E219BBDE3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821A-BA04-4E9E-BC23-2FC72F4E7C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D04A-7F1B-41E2-9D13-168EEAF5B2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F6A9-AB4E-4513-A978-874A87D1DD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A277-93C3-4057-9340-FBCB5A6E3E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B49E-4F74-4CE3-B89C-0751BF76AA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0C8F-3D64-4C25-9CE7-AEA1426D5E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71B-9603-4405-9933-E6A48FA9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7103-34E8-4320-BF0D-DF011DD3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C26-8376-432B-854D-7F8DF20F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916-7023-4FCB-9A62-1DD81F9A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7B6F-0938-48D0-85D3-F4630754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5240-C6F2-4927-83F0-D0E86789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D4AC-079D-4EEE-8634-7FCFDDCD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4A58-E34F-466A-8B9D-0B99526B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675F-41C9-4B69-B783-7291725A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4CD3-9803-4B52-8B72-09026DF1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204D-E209-46C3-9D6D-FDB70747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D69-DD8B-474D-BFCE-71FE5290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E900-B5EC-43D2-8C6E-24CD9784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4741-2743-45C0-B419-2AC5C477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F17A-9993-4628-B084-D1D9DFFA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0DC1-57AB-4C5B-8301-B19258A1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FD57-5489-4816-A600-EA09ACE7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8EC-62D6-4ACF-A382-4915A7DE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9A3-25EB-49A3-B47D-DD5AF0C2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4A7-6BD2-4A7E-9BFE-01A0FE8B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7EA-3C9C-46AB-8252-0D731C8B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625-BD10-4770-83E8-7A9F06DF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D4FD-5B10-4885-9424-5FE23E5E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694-338C-4222-BDB4-393A74FB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9765-D8C2-474F-A751-C5E0E1B2678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D04A-3B12-4FAA-8D0C-9E8F76F2C9E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714680" y="2209680"/>
            <a:ext cx="545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пы стандартных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мализованных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риме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228600" y="12952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320" y="-360"/>
            <a:ext cx="952488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Рисунок 1" descr=""/>
          <p:cNvPicPr/>
          <p:nvPr/>
        </p:nvPicPr>
        <p:blipFill>
          <a:blip r:embed="rId1"/>
          <a:stretch/>
        </p:blipFill>
        <p:spPr>
          <a:xfrm>
            <a:off x="979560" y="304920"/>
            <a:ext cx="7210440" cy="44672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"/>
          <p:cNvSpPr/>
          <p:nvPr/>
        </p:nvSpPr>
        <p:spPr>
          <a:xfrm>
            <a:off x="1018080" y="4952880"/>
            <a:ext cx="713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 с осевым располож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200÷120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474120" y="2209680"/>
            <a:ext cx="768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ки кругл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ышенной точности из шту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полосовых заготов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мпаундные штампы 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лектромашиностроени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Рисунок 1" descr=""/>
          <p:cNvPicPr/>
          <p:nvPr/>
        </p:nvPicPr>
        <p:blipFill>
          <a:blip r:embed="rId1"/>
          <a:stretch/>
        </p:blipFill>
        <p:spPr>
          <a:xfrm>
            <a:off x="399960" y="0"/>
            <a:ext cx="8344080" cy="4981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304200" y="5105520"/>
            <a:ext cx="853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е с осевым располож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60÷18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298440" y="2057400"/>
            <a:ext cx="8259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ки мелких т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преимущественно в часов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иоэлектронной промышлен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ются блоки без направля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улок, с втулками, с шариковы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Рисунок 1" descr=""/>
          <p:cNvPicPr/>
          <p:nvPr/>
        </p:nvPicPr>
        <p:blipFill>
          <a:blip r:embed="rId1"/>
          <a:stretch/>
        </p:blipFill>
        <p:spPr>
          <a:xfrm>
            <a:off x="2013120" y="-76320"/>
            <a:ext cx="5105160" cy="54594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674640" y="5407200"/>
            <a:ext cx="803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цизионные с подвижной направляющ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литой, диагональным и угловы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положением направляющих колоно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1685880" y="76320"/>
            <a:ext cx="4943520" cy="51559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390240" y="5278320"/>
            <a:ext cx="8396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Прецизионные с общим направлением верхней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и подвижной направляющей плиты, с угловым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расположением четырех направляющих колонок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529920" y="2176560"/>
            <a:ext cx="812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следовательной штамп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чных деталей из тонкого материал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имущественно при штампов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ессах-автомат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1208520" y="2819520"/>
            <a:ext cx="645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кеты вытяжн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ессов простого действ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928800" y="0"/>
            <a:ext cx="7286400" cy="53341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2897640" y="5638680"/>
            <a:ext cx="30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677160" y="2325600"/>
            <a:ext cx="711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рвой вытяжки без прижи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на провал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>
            <a:off x="495360" y="-228600"/>
            <a:ext cx="8010360" cy="54100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1648800" y="5222880"/>
            <a:ext cx="538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адним располож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=60÷500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314360" y="76320"/>
            <a:ext cx="6534360" cy="51339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3067920" y="5638680"/>
            <a:ext cx="31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1784880" y="2666880"/>
            <a:ext cx="572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торой и последу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раци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рижи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на провал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1905120" y="0"/>
            <a:ext cx="5676840" cy="6039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3237480" y="6172200"/>
            <a:ext cx="32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2124720" y="2568600"/>
            <a:ext cx="436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рво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рижим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ской загот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Рисунок 1" descr=""/>
          <p:cNvPicPr/>
          <p:nvPr/>
        </p:nvPicPr>
        <p:blipFill>
          <a:blip r:embed="rId1"/>
          <a:stretch/>
        </p:blipFill>
        <p:spPr>
          <a:xfrm>
            <a:off x="1828800" y="0"/>
            <a:ext cx="5676840" cy="60102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"/>
          <p:cNvSpPr/>
          <p:nvPr/>
        </p:nvSpPr>
        <p:spPr>
          <a:xfrm>
            <a:off x="3144600" y="609588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1708560" y="2895480"/>
            <a:ext cx="57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торой и последу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раций вытяжк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рижим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2" name="Рисунок 2" descr=""/>
          <p:cNvPicPr/>
          <p:nvPr/>
        </p:nvPicPr>
        <p:blipFill>
          <a:blip r:embed="rId1"/>
          <a:stretch/>
        </p:blipFill>
        <p:spPr>
          <a:xfrm>
            <a:off x="1371600" y="27000"/>
            <a:ext cx="6105600" cy="56484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3"/>
          <p:cNvSpPr/>
          <p:nvPr/>
        </p:nvSpPr>
        <p:spPr>
          <a:xfrm>
            <a:off x="2863440" y="5867280"/>
            <a:ext cx="31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1740960" y="2685960"/>
            <a:ext cx="567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овмещенной вы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тяжки на пресс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го действ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9" name="Рисунок 1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486480" cy="43149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2"/>
          <p:cNvSpPr/>
          <p:nvPr/>
        </p:nvSpPr>
        <p:spPr>
          <a:xfrm>
            <a:off x="2037600" y="4749840"/>
            <a:ext cx="483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угольн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1708560" y="2666880"/>
            <a:ext cx="572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торой и последу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раци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бчат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рижи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на провал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376200" y="1981080"/>
            <a:ext cx="855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бычной штамповки детале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ней сложности и  точ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полосовых и штучных заготов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ырубные, пробивные, гибочные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тяжные и комбинированные штампы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Объект 3" descr=""/>
          <p:cNvPicPr/>
          <p:nvPr/>
        </p:nvPicPr>
        <p:blipFill>
          <a:blip r:embed="rId1"/>
          <a:stretch/>
        </p:blipFill>
        <p:spPr>
          <a:xfrm>
            <a:off x="1828800" y="36360"/>
            <a:ext cx="5294160" cy="45309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2084040" y="4800600"/>
            <a:ext cx="49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угольн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2201040" y="2514600"/>
            <a:ext cx="4365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рво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бчат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рижим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ской загот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Объект 3" descr=""/>
          <p:cNvPicPr/>
          <p:nvPr/>
        </p:nvPicPr>
        <p:blipFill>
          <a:blip r:embed="rId1"/>
          <a:stretch/>
        </p:blipFill>
        <p:spPr>
          <a:xfrm>
            <a:off x="2057400" y="34920"/>
            <a:ext cx="5022720" cy="45306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2101320" y="4876920"/>
            <a:ext cx="51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угольн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632600" y="2514600"/>
            <a:ext cx="572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торой и последу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раци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бчат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рижим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876240" y="76320"/>
            <a:ext cx="739152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916920" y="4800600"/>
            <a:ext cx="688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иагональным располож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60÷50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334440" y="2133720"/>
            <a:ext cx="8538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ки более т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при работе из полос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ыстроходных пресс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ырубные и последовательные штампы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550800" y="152280"/>
            <a:ext cx="7991640" cy="4305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"/>
          <p:cNvSpPr/>
          <p:nvPr/>
        </p:nvSpPr>
        <p:spPr>
          <a:xfrm>
            <a:off x="369720" y="4648320"/>
            <a:ext cx="8404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севым (симметричным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положением 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60÷50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345960" y="1338120"/>
            <a:ext cx="84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ки мелких точн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ным образом из штучных заготов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робивные, гибочные, зачистные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тяжные и комбинированные штампы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Рисунок 1" descr=""/>
          <p:cNvPicPr/>
          <p:nvPr/>
        </p:nvPicPr>
        <p:blipFill>
          <a:blip r:embed="rId1"/>
          <a:stretch/>
        </p:blipFill>
        <p:spPr>
          <a:xfrm>
            <a:off x="609480" y="25560"/>
            <a:ext cx="8001000" cy="47908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1148400" y="4952880"/>
            <a:ext cx="68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гловым располож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тырех 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535680" y="2054160"/>
            <a:ext cx="779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ки крупн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больших штучных заготовок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кже для многопозицион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овательн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25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