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FBCC-FC7F-4AAA-9A22-9693C894A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0885-FAAA-4B79-9311-85FE420CAE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D0EA-AA5A-4C8B-AE8D-9DB6BA8C68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2DB-EF84-4DEF-95AC-220189E4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236-999F-42C7-B743-78B86C8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536-7E3C-427A-AE00-00EE2D42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43B-4A5F-4C5E-9B1B-7385BA7D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10FD-C657-43A5-8BD6-D04B59AE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697D-CE6F-46DD-B157-B3968E8C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2363-E89F-4CCD-B732-16B1839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6B9D-78B6-43D7-8F03-3968774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DAC5-946B-4C7E-BC4F-1017C37E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00CE-ED10-48CE-9D49-F1449654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5382-219D-42BC-9E7C-374A5F4E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246-B828-4BF6-94C0-86006977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5D50-DE83-4016-8A69-171B727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3DDD-D53C-4E5B-B6DD-B5E11A3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F5A-1406-470D-AABA-21AADABE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8691-E2A6-4DC3-B968-650751E9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A60A-25DD-44EF-9881-2AC3797E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EF2-4E78-4766-A73C-9BC989F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32B-BA9B-457F-98E3-A1CFEF2A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52E-CC66-4D2D-908E-3257BC6A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ADB-82C6-4CD2-940B-384163A3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727-71F4-4603-8467-0D3B763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D44-5C23-44FC-B9C2-3C36A19F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B27-0FB1-4CB1-AFB7-1339451D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42A5-E404-4C15-98AC-A5083785A38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722F-2794-4D9C-8F5D-EF44D497425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861280" y="1371600"/>
            <a:ext cx="3518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ъемник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095880" cy="37148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1434600" y="466092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ый резиновый верх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78720" y="1523880"/>
            <a:ext cx="842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ийном производст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бивных, главным образ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пуансонных или в открыт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упных дета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тся на пуансон или штиф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держивается сжатием рез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ные шайбы привулканизирова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5 до 30 м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0 до 6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Объект 3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43720" cy="45309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2179080" y="521172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ый буфер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723960" y="1295280"/>
            <a:ext cx="706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бженными нижним буфер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штампах, устанавливаем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сах с пневматическ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ферными устройств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ологическое приме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логично пружинно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жнему съемни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Объект 3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353200" cy="45309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2056680" y="5207040"/>
            <a:ext cx="52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отжимаем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864360" y="1600200"/>
            <a:ext cx="741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ых деталях, а также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холодного выдавливания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ому мето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ие – применить боле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ткие пуансоны и увелич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ую высоту для свобод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ения дета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Объект 3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071960" cy="4530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1708920" y="518148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направляем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6600" y="380880"/>
            <a:ext cx="8049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 съемником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правляющей плит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уансон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тся в штампах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андартными длинными и тонк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ами, например при проби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высоких вытянут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ях, когда по конструктив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ображениям применить пуанс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бках не представляетс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962680" cy="43909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1824840" y="517356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асывающе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923040" y="1676520"/>
            <a:ext cx="719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дъема и удерж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су крупной дета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брасыванием ее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е удаляющее устрой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Объект 3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069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100600" y="517680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кий (неподвижны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857920" cy="3790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938880" y="467352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кционно-кольцевой пружиня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работе на прова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талей диамет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810120" cy="28670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783720" y="3809880"/>
            <a:ext cx="75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крючковый пружиня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774720" y="1752480"/>
            <a:ext cx="722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работе на провал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свыше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потайных цилиндрическ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ужин иногда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ие наруж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953320" cy="3619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470160" y="419112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крючков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 (плавающ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26040" y="2209680"/>
            <a:ext cx="568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изготовлении круп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инных гиль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Объект 3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77120" cy="39052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152080" y="464832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планоч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179000" y="1828800"/>
            <a:ext cx="663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и протяж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 при работе на прова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ъемные пла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оротно-наклоняемого ти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854280" y="2286000"/>
            <a:ext cx="731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елкосерийном производст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рубой вырубки из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щино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3мм или при проби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крупных детал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818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100600" y="510552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кий (неподвижны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94600" y="1752480"/>
            <a:ext cx="746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тся как съемни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кетных штампах-одновремен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правляющая пли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уансо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4188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1445040" y="5072040"/>
            <a:ext cx="68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пружинный верх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202040" y="1600200"/>
            <a:ext cx="669060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нкого материал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бинирова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ых штамп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Объект 3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10560" cy="4219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653120" y="4876920"/>
            <a:ext cx="587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пружинный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овый ниж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49880" y="609480"/>
            <a:ext cx="7626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из тонк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о 0,2 мм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ри вырубке крупных дета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при комбинированной вырубке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е как крупных, так и мелк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в совмещенных штамп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пружин можно применя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овые буфе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32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